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2DD-D59B-4B48-A225-C5E6DD93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A18-E3A6-40BB-9EAC-9A33C58B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C80-CEE5-4A10-A969-B60C8AA7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2CA-CBC6-4E90-83D6-70E32C48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DFA-BE50-4537-BD68-2CC7918D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52B-30F8-472A-BC57-CBC3E478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1CF-8B44-4F80-B0A2-7B4070CB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06D-1343-4E2D-AA57-29ADCC18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49E-3877-4E4F-9241-6C0BFE13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84A-40E8-43B0-84BE-1274DBDB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E17-C7BF-4146-943A-C1C60E3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F70-C75A-4FD5-9C90-2B3DBAEF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77E3-A949-47BD-912F-B96C3A901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image" Target="../media/image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artooncottage.com/html/bugs.html" TargetMode="External"/><Relationship Id="rId2" Type="http://schemas.openxmlformats.org/officeDocument/2006/relationships/hyperlink" Target="http://insects.phillipmartin.info/index.htm" TargetMode="External"/><Relationship Id="rId3" Type="http://schemas.openxmlformats.org/officeDocument/2006/relationships/hyperlink" Target="http://www.cartooncottage.com/html/bugs.html" TargetMode="External"/><Relationship Id="rId4" Type="http://schemas.openxmlformats.org/officeDocument/2006/relationships/hyperlink" Target="http://www.cartooncottage.com/html/bugs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7800" y="50292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66568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5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33520"/>
            <a:ext cx="723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304920"/>
            <a:ext cx="6019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T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he L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a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d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y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b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u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g 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J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o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u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r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n</a:t>
            </a:r>
            <a:r>
              <a:rPr b="0" lang="en-US" sz="8800" spc="-1" strike="noStrike">
                <a:solidFill>
                  <a:srgbClr val="000000"/>
                </a:solidFill>
                <a:latin typeface="Bradley Hand ITC"/>
              </a:rPr>
              <a:t>e</a:t>
            </a:r>
            <a:r>
              <a:rPr b="0" lang="en-US" sz="8800" spc="-1" strike="noStrike">
                <a:solidFill>
                  <a:srgbClr val="ff0000"/>
                </a:solidFill>
                <a:latin typeface="Bradley Hand ITC"/>
              </a:rPr>
              <a:t>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gHvThumb" descr="Wooden footbridge to a forest and mountain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46" name="ladybugline" descr="Ladybug"/>
          <p:cNvPicPr/>
          <p:nvPr/>
        </p:nvPicPr>
        <p:blipFill>
          <a:blip r:embed="rId2"/>
          <a:stretch/>
        </p:blipFill>
        <p:spPr>
          <a:xfrm>
            <a:off x="2514600" y="5334120"/>
            <a:ext cx="3467160" cy="561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594216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once was a ladybug who had no friends because he lied about everything he did. And they didn’t want to be his friend any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flipH="1">
            <a:off x="6476760" y="228600"/>
            <a:ext cx="177948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43400" y="762120"/>
            <a:ext cx="1828800" cy="1904760"/>
          </a:xfrm>
          <a:prstGeom prst="wedgeEllipseCallout">
            <a:avLst>
              <a:gd name="adj1" fmla="val 61893"/>
              <a:gd name="adj2" fmla="val -21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 you down there you look lost do u need hel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gHvThumb" descr="Wooden footbridge to a forest and mount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353200"/>
            <a:ext cx="1752480" cy="1504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flipH="1">
            <a:off x="4800600" y="25146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4572000"/>
            <a:ext cx="1295640" cy="1371600"/>
          </a:xfrm>
          <a:prstGeom prst="wedgeRoundRectCallout">
            <a:avLst>
              <a:gd name="adj1" fmla="val -59314"/>
              <a:gd name="adj2" fmla="val 5243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I’m just sad because none of my friends want to talk to me 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1219320"/>
            <a:ext cx="1904760" cy="1143000"/>
          </a:xfrm>
          <a:prstGeom prst="wedgeEllipseCallout">
            <a:avLst>
              <a:gd name="adj1" fmla="val -43750"/>
              <a:gd name="adj2" fmla="val 5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 be your friend and you can meet my friends too they're really 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7" name="ggrasshopper" descr="grasshopper"/>
          <p:cNvPicPr/>
          <p:nvPr/>
        </p:nvPicPr>
        <p:blipFill>
          <a:blip r:embed="rId2"/>
          <a:stretch/>
        </p:blipFill>
        <p:spPr>
          <a:xfrm>
            <a:off x="5791320" y="5464080"/>
            <a:ext cx="1752480" cy="1393920"/>
          </a:xfrm>
          <a:prstGeom prst="rect">
            <a:avLst/>
          </a:prstGeom>
          <a:ln w="0">
            <a:noFill/>
          </a:ln>
        </p:spPr>
      </p:pic>
      <p:pic>
        <p:nvPicPr>
          <p:cNvPr id="58" name="indiana_firefly" descr=""/>
          <p:cNvPicPr/>
          <p:nvPr/>
        </p:nvPicPr>
        <p:blipFill>
          <a:blip r:embed="rId3"/>
          <a:stretch/>
        </p:blipFill>
        <p:spPr>
          <a:xfrm>
            <a:off x="7086600" y="373392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04920" y="1752480"/>
            <a:ext cx="1600200" cy="1409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00200" y="1143000"/>
            <a:ext cx="2133720" cy="990720"/>
          </a:xfrm>
          <a:prstGeom prst="wedgeEllipseCallout">
            <a:avLst>
              <a:gd name="adj1" fmla="val -42412"/>
              <a:gd name="adj2" fmla="val 74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 guys this is my new fri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09680"/>
            <a:ext cx="1828800" cy="1219320"/>
          </a:xfrm>
          <a:prstGeom prst="wedgeEllipseCallout">
            <a:avLst>
              <a:gd name="adj1" fmla="val -39583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 what is 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886200"/>
            <a:ext cx="1447560" cy="1600200"/>
          </a:xfrm>
          <a:prstGeom prst="wedgeEllipseCallout">
            <a:avLst>
              <a:gd name="adj1" fmla="val -11185"/>
              <a:gd name="adj2" fmla="val 60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 my name is Pat what is y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04920" y="5353200"/>
            <a:ext cx="1523880" cy="1504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33720" y="4267080"/>
            <a:ext cx="1676160" cy="1219320"/>
          </a:xfrm>
          <a:prstGeom prst="wedgeEllipseCallout">
            <a:avLst>
              <a:gd name="adj1" fmla="val -69699"/>
              <a:gd name="adj2" fmla="val 35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name is buz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5353200"/>
            <a:ext cx="2057400" cy="1504800"/>
          </a:xfrm>
          <a:prstGeom prst="rect">
            <a:avLst/>
          </a:prstGeom>
          <a:ln w="0">
            <a:noFill/>
          </a:ln>
        </p:spPr>
      </p:pic>
      <p:pic>
        <p:nvPicPr>
          <p:cNvPr id="67" name="ggrasshopper" descr="grasshopper"/>
          <p:cNvPicPr/>
          <p:nvPr/>
        </p:nvPicPr>
        <p:blipFill>
          <a:blip r:embed="rId3"/>
          <a:stretch/>
        </p:blipFill>
        <p:spPr>
          <a:xfrm>
            <a:off x="6324480" y="5413320"/>
            <a:ext cx="2819520" cy="1444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62120" y="968400"/>
            <a:ext cx="2057400" cy="1812960"/>
          </a:xfrm>
          <a:prstGeom prst="rect">
            <a:avLst/>
          </a:prstGeom>
          <a:ln w="0">
            <a:noFill/>
          </a:ln>
        </p:spPr>
      </p:pic>
      <p:pic>
        <p:nvPicPr>
          <p:cNvPr id="69" name="indiana_firefly" descr=""/>
          <p:cNvPicPr/>
          <p:nvPr/>
        </p:nvPicPr>
        <p:blipFill>
          <a:blip r:embed="rId5"/>
          <a:stretch/>
        </p:blipFill>
        <p:spPr>
          <a:xfrm>
            <a:off x="7086600" y="2819520"/>
            <a:ext cx="1676520" cy="1320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00800" y="4495680"/>
            <a:ext cx="2133720" cy="990720"/>
          </a:xfrm>
          <a:prstGeom prst="wedgeEllipseCallout">
            <a:avLst>
              <a:gd name="adj1" fmla="val -43750"/>
              <a:gd name="adj2" fmla="val 42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how did you and buzz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685800"/>
            <a:ext cx="2362320" cy="1295280"/>
          </a:xfrm>
          <a:prstGeom prst="wedgeRectCallout">
            <a:avLst>
              <a:gd name="adj1" fmla="val -68212"/>
              <a:gd name="adj2" fmla="val 21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l I saw him walking and he looked sad so when I went down to got see what was wrong with him he told me he had no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1295280"/>
            <a:ext cx="1066680" cy="1600200"/>
          </a:xfrm>
          <a:prstGeom prst="wedgeRoundRectCallout">
            <a:avLst>
              <a:gd name="adj1" fmla="val -46578"/>
              <a:gd name="adj2" fmla="val 57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rry that happened to you but you have new friends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343400"/>
            <a:ext cx="129528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Cartooncottage, 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ddy bea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3/12,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rtooncottage.com/html/bug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Phillipmartin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ref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13/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ects.phillipmartin.info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ooncottage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sshopper animations graph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13/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artooncottage.com/html/bugs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             , 4/4/12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, ladybug,4/4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6:47:48Z</dcterms:created>
  <dc:creator>install</dc:creator>
  <dc:description/>
  <dc:language>en-US</dc:language>
  <cp:lastModifiedBy>install</cp:lastModifiedBy>
  <dcterms:modified xsi:type="dcterms:W3CDTF">2012-04-13T16:39:52Z</dcterms:modified>
  <cp:revision>13</cp:revision>
  <dc:subject/>
  <dc:title>Slide 1</dc:title>
</cp:coreProperties>
</file>